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29.jpeg" ContentType="image/jpeg"/>
  <Override PartName="/ppt/media/image12.png" ContentType="image/png"/>
  <Override PartName="/ppt/media/image31.png" ContentType="image/png"/>
  <Override PartName="/ppt/media/image34.png" ContentType="image/png"/>
  <Override PartName="/ppt/media/image35.png" ContentType="image/png"/>
  <Override PartName="/ppt/media/image15.gif" ContentType="image/gif"/>
  <Override PartName="/ppt/media/image5.jpeg" ContentType="image/jpe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3C6A-6854-470F-A286-360AD0FDE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75CC-B12A-488E-859C-1BBB25B36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0549-5092-47D2-80E2-6396E9564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5859-9259-4CE4-B7C4-2C80BF985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7EE5-5E3F-404B-AA68-05D78EA30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E922-E28A-4D53-88B7-F270D7D987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43A-BEFA-413A-8E07-9E561BADF4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1E0-CAAD-4903-AFA3-55AA382043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62C-2E78-46F6-88AA-2E2ED4912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7B77-3525-4E41-ACB9-990007C4D8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016-F410-4354-9A79-07E9AF2571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BDC-0D3C-46A6-8CAD-64CDFF6C76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A16-980B-4E1C-8ECD-D40337E892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87B-F1AC-447A-A3C4-453DF585A7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6CD-73D1-42FF-9630-FB11566A61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E7C-4256-4420-AD0B-F14AFB5F82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41D-05C6-4433-B3DD-05A1D537D4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A1D-0F38-4C93-80BE-DBAD53FBFB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3FF-B94A-4C4C-8988-CEAD2C50EC5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E2640-0B03-4775-BD68-DC16FA371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0D65-3310-400D-B7A8-7B99CC28FA7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1C7FD-2EA5-49D7-87BD-704E1A3E234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58FAA-174A-49FC-9552-1D5EBD1302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173FF-43CC-435C-852B-187F0C79D7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D808C-37A4-4839-8CFB-2C6616092F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F2E93-498F-438D-A763-C894554EE4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B46A0-2441-4682-9933-D2417E75D90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FDDE6-5B16-4872-B249-D0654A26D75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3C4A1-C8CE-4048-AA56-507F00CD3B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6C18D-500B-482D-8130-EC20C7E8C8D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5CCB4-F343-47FA-98EF-2391C1EC2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D931-335D-4688-884D-1D14EAE0EAB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F615E-31F9-4828-87C5-1CC13FD54C1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A124-CC91-4EBD-8EE8-CD4D0A529E1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8EF1-CC10-449E-ADCA-3207040B0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C528-21BF-4CD3-B8CF-EBEFC6304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93E9-2CB7-4B7A-8C7C-BB28FC63CA58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F651-AC01-40F9-901A-5A167C357DDC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EDE9-1A3D-4E20-ABA1-203E0DB056C2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1409-9FAF-4A70-AE49-347D5CA97071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hyperlink" Target="http://www.cdti.es/" TargetMode="External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87640" y="1989000"/>
            <a:ext cx="4103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858920" y="5157360"/>
            <a:ext cx="3600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7 febrero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4235400" y="2852640"/>
            <a:ext cx="4908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JORNADA TÉCNICA DE PRESENTACIÓN DE LA CONSULTA PRELIMINAR DEL MERCAD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NNOVA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Innovadora en CDTI</a:t>
            </a: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catalít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10 CuadroTexto"/>
          <p:cNvSpPr/>
          <p:nvPr/>
        </p:nvSpPr>
        <p:spPr>
          <a:xfrm>
            <a:off x="3851280" y="2133720"/>
            <a:ext cx="448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mprador no es un usuario final del bien, sino un catalizador de la llegada de la solución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4 Imagen" descr="Resultado de imagen de imagen empujar"/>
          <p:cNvPicPr/>
          <p:nvPr/>
        </p:nvPicPr>
        <p:blipFill>
          <a:blip r:embed="rId1"/>
          <a:srcRect l="2136" t="19300" r="47080" b="9903"/>
          <a:stretch/>
        </p:blipFill>
        <p:spPr>
          <a:xfrm>
            <a:off x="611280" y="2438280"/>
            <a:ext cx="2952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onda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45BB-D41C-4839-BFA2-B360D96C3A23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1 Título"/>
          <p:cNvSpPr/>
          <p:nvPr/>
        </p:nvSpPr>
        <p:spPr>
          <a:xfrm>
            <a:off x="873000" y="404640"/>
            <a:ext cx="7444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. Esquema Glob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6 Diagrama" descr=""/>
          <p:cNvPicPr/>
          <p:nvPr/>
        </p:nvPicPr>
        <p:blipFill>
          <a:blip r:embed="rId1"/>
          <a:stretch/>
        </p:blipFill>
        <p:spPr>
          <a:xfrm>
            <a:off x="-55440" y="1639800"/>
            <a:ext cx="99122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br>
              <a:rPr sz="4400"/>
            </a:b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 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407880" y="1773360"/>
            <a:ext cx="3137040" cy="2592360"/>
          </a:xfrm>
          <a:prstGeom prst="rect">
            <a:avLst/>
          </a:prstGeom>
          <a:ln w="0">
            <a:noFill/>
          </a:ln>
        </p:spPr>
      </p:pic>
      <p:sp>
        <p:nvSpPr>
          <p:cNvPr id="321" name="6 CuadroTexto"/>
          <p:cNvSpPr/>
          <p:nvPr/>
        </p:nvSpPr>
        <p:spPr>
          <a:xfrm>
            <a:off x="3544920" y="1546200"/>
            <a:ext cx="5491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dm. Públic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7 Diagrama" descr=""/>
          <p:cNvPicPr/>
          <p:nvPr/>
        </p:nvPicPr>
        <p:blipFill>
          <a:blip r:embed="rId2"/>
          <a:stretch/>
        </p:blipFill>
        <p:spPr>
          <a:xfrm>
            <a:off x="5479920" y="4565520"/>
            <a:ext cx="3353040" cy="1622520"/>
          </a:xfrm>
          <a:prstGeom prst="rect">
            <a:avLst/>
          </a:prstGeom>
          <a:ln w="0">
            <a:noFill/>
          </a:ln>
        </p:spPr>
      </p:pic>
      <p:sp>
        <p:nvSpPr>
          <p:cNvPr id="323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1 Título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Priorización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324000" y="1677960"/>
            <a:ext cx="3628800" cy="3983040"/>
          </a:xfrm>
          <a:prstGeom prst="rect">
            <a:avLst/>
          </a:prstGeom>
          <a:ln w="0">
            <a:noFill/>
          </a:ln>
        </p:spPr>
      </p:pic>
      <p:sp>
        <p:nvSpPr>
          <p:cNvPr id="327" name="6 CuadroTexto"/>
          <p:cNvSpPr/>
          <p:nvPr/>
        </p:nvSpPr>
        <p:spPr>
          <a:xfrm>
            <a:off x="406728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5080-2514-445A-B930-97FA9067EEBD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24000" y="189000"/>
            <a:ext cx="820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Resu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Calibri"/>
              </a:rPr>
              <a:t>j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581040" y="1773360"/>
            <a:ext cx="8299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9A2B-3797-4204-BE56-069EA8F4347A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324000" y="189000"/>
            <a:ext cx="820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SERGAS como usuario f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581040" y="1406520"/>
            <a:ext cx="829944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stema de identificac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trol de aguas de ba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ptimización de recursos en oncolo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estión integral de comités méd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cientes con tumores diges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alud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abetes gesta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79BA-32BB-44CE-9EE6-0566898361E1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395280" y="534960"/>
            <a:ext cx="5184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mpromiso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625320" y="2492280"/>
            <a:ext cx="81946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rupo técnico de trabajo/Comisión de segu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6300720" y="631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295A-361E-4125-9C5B-704FE37945AD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1 Título"/>
          <p:cNvSpPr/>
          <p:nvPr/>
        </p:nvSpPr>
        <p:spPr>
          <a:xfrm>
            <a:off x="324000" y="115920"/>
            <a:ext cx="849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sultas Preliminares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9 CuadroTexto"/>
          <p:cNvSpPr/>
          <p:nvPr/>
        </p:nvSpPr>
        <p:spPr>
          <a:xfrm>
            <a:off x="3876840" y="1387440"/>
            <a:ext cx="5133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alleres técnicos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3328920" cy="2232000"/>
          </a:xfrm>
          <a:prstGeom prst="rect">
            <a:avLst/>
          </a:prstGeom>
          <a:ln w="0">
            <a:noFill/>
          </a:ln>
        </p:spPr>
      </p:pic>
      <p:sp>
        <p:nvSpPr>
          <p:cNvPr id="344" name="8 CuadroTexto"/>
          <p:cNvSpPr/>
          <p:nvPr/>
        </p:nvSpPr>
        <p:spPr>
          <a:xfrm>
            <a:off x="4284720" y="1819440"/>
            <a:ext cx="46292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855720" y="155736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Rectángulo"/>
          <p:cNvSpPr/>
          <p:nvPr/>
        </p:nvSpPr>
        <p:spPr>
          <a:xfrm>
            <a:off x="2195640" y="2781360"/>
            <a:ext cx="6408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565360"/>
            <a:ext cx="2087640" cy="2014560"/>
          </a:xfrm>
          <a:prstGeom prst="rect">
            <a:avLst/>
          </a:prstGeom>
          <a:ln w="0">
            <a:noFill/>
          </a:ln>
        </p:spPr>
      </p:pic>
      <p:sp>
        <p:nvSpPr>
          <p:cNvPr id="270" name="1 Título"/>
          <p:cNvSpPr/>
          <p:nvPr/>
        </p:nvSpPr>
        <p:spPr>
          <a:xfrm>
            <a:off x="363600" y="692280"/>
            <a:ext cx="8496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4805-295A-4818-B9A2-CE21918B651D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1 Título"/>
          <p:cNvSpPr/>
          <p:nvPr/>
        </p:nvSpPr>
        <p:spPr>
          <a:xfrm>
            <a:off x="324000" y="52560"/>
            <a:ext cx="5543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Iniciativas public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9 CuadroTexto"/>
          <p:cNvSpPr/>
          <p:nvPr/>
        </p:nvSpPr>
        <p:spPr>
          <a:xfrm>
            <a:off x="303120" y="1255680"/>
            <a:ext cx="489744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Ret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Vigilancia marítima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Vigilancia Rural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Traslado de pres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reservación de órganos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tráfico aéreo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ensayos clín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lataforma Gestión Hidrológica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Alerta temprana de vert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Desalación agua de m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5 Imagen" descr="Resultado de imagen de imagen mesa negocios"/>
          <p:cNvPicPr/>
          <p:nvPr/>
        </p:nvPicPr>
        <p:blipFill>
          <a:blip r:embed="rId1"/>
          <a:srcRect l="5655" t="13611" r="3618" b="25537"/>
          <a:stretch/>
        </p:blipFill>
        <p:spPr>
          <a:xfrm>
            <a:off x="5467320" y="684360"/>
            <a:ext cx="2200320" cy="1160280"/>
          </a:xfrm>
          <a:prstGeom prst="rect">
            <a:avLst/>
          </a:prstGeom>
          <a:ln w="0">
            <a:noFill/>
          </a:ln>
        </p:spPr>
      </p:pic>
      <p:sp>
        <p:nvSpPr>
          <p:cNvPr id="350" name="1 Cerrar llave"/>
          <p:cNvSpPr/>
          <p:nvPr/>
        </p:nvSpPr>
        <p:spPr>
          <a:xfrm>
            <a:off x="4240080" y="1225440"/>
            <a:ext cx="328680" cy="1368360"/>
          </a:xfrm>
          <a:custGeom>
            <a:avLst/>
            <a:gdLst>
              <a:gd name="textAreaLeft" fmla="*/ 0 w 328680"/>
              <a:gd name="textAreaRight" fmla="*/ 118800 w 328680"/>
              <a:gd name="textAreaTop" fmla="*/ 8280 h 1368360"/>
              <a:gd name="textAreaBottom" fmla="*/ 1360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6"/>
                  <a:pt x="10800" y="432"/>
                </a:cubicBezTo>
                <a:lnTo>
                  <a:pt x="10800" y="10229"/>
                </a:lnTo>
                <a:cubicBezTo>
                  <a:pt x="10800" y="10445"/>
                  <a:pt x="16200" y="10661"/>
                  <a:pt x="21600" y="10661"/>
                </a:cubicBezTo>
                <a:cubicBezTo>
                  <a:pt x="16200" y="10661"/>
                  <a:pt x="10800" y="10877"/>
                  <a:pt x="10800" y="11093"/>
                </a:cubicBezTo>
                <a:lnTo>
                  <a:pt x="10800" y="21168"/>
                </a:lnTo>
                <a:cubicBezTo>
                  <a:pt x="10800" y="21384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8 Cerrar llave"/>
          <p:cNvSpPr/>
          <p:nvPr/>
        </p:nvSpPr>
        <p:spPr>
          <a:xfrm>
            <a:off x="4673520" y="4557600"/>
            <a:ext cx="363600" cy="855720"/>
          </a:xfrm>
          <a:custGeom>
            <a:avLst/>
            <a:gdLst>
              <a:gd name="textAreaLeft" fmla="*/ 0 w 363600"/>
              <a:gd name="textAreaRight" fmla="*/ 131400 w 363600"/>
              <a:gd name="textAreaTop" fmla="*/ 9360 h 855720"/>
              <a:gd name="textAreaBottom" fmla="*/ 84636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3"/>
                  <a:pt x="10800" y="765"/>
                </a:cubicBezTo>
                <a:lnTo>
                  <a:pt x="10800" y="10035"/>
                </a:lnTo>
                <a:cubicBezTo>
                  <a:pt x="10800" y="10418"/>
                  <a:pt x="16200" y="10800"/>
                  <a:pt x="21600" y="10800"/>
                </a:cubicBezTo>
                <a:cubicBezTo>
                  <a:pt x="16200" y="10800"/>
                  <a:pt x="10800" y="11183"/>
                  <a:pt x="10800" y="11565"/>
                </a:cubicBezTo>
                <a:lnTo>
                  <a:pt x="10800" y="20835"/>
                </a:lnTo>
                <a:cubicBezTo>
                  <a:pt x="10800" y="21218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10 CuadroTexto"/>
          <p:cNvSpPr/>
          <p:nvPr/>
        </p:nvSpPr>
        <p:spPr>
          <a:xfrm>
            <a:off x="5119560" y="184932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In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13 CuadroTexto"/>
          <p:cNvSpPr/>
          <p:nvPr/>
        </p:nvSpPr>
        <p:spPr>
          <a:xfrm>
            <a:off x="5119560" y="2771640"/>
            <a:ext cx="3765600" cy="6426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ejería Economía, Ciencia y Agenda Digital ( Junta Extremadu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14 CuadroTexto"/>
          <p:cNvSpPr/>
          <p:nvPr/>
        </p:nvSpPr>
        <p:spPr>
          <a:xfrm>
            <a:off x="5119560" y="369576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gencia Gallega de Innov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15 CuadroTexto"/>
          <p:cNvSpPr/>
          <p:nvPr/>
        </p:nvSpPr>
        <p:spPr>
          <a:xfrm>
            <a:off x="5119560" y="41720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rvicio Gallego de Sal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16 CuadroTexto"/>
          <p:cNvSpPr/>
          <p:nvPr/>
        </p:nvSpPr>
        <p:spPr>
          <a:xfrm>
            <a:off x="5119560" y="480060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Transición Ec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12 CuadroTexto"/>
          <p:cNvSpPr/>
          <p:nvPr/>
        </p:nvSpPr>
        <p:spPr>
          <a:xfrm>
            <a:off x="6880320" y="5724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17 Imagen" descr="Imagen relacionada"/>
          <p:cNvPicPr/>
          <p:nvPr/>
        </p:nvPicPr>
        <p:blipFill>
          <a:blip r:embed="rId2"/>
          <a:stretch/>
        </p:blipFill>
        <p:spPr>
          <a:xfrm>
            <a:off x="4075200" y="127800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59" name="18 Imagen" descr="Imagen relacionada"/>
          <p:cNvPicPr/>
          <p:nvPr/>
        </p:nvPicPr>
        <p:blipFill>
          <a:blip r:embed="rId3"/>
          <a:stretch/>
        </p:blipFill>
        <p:spPr>
          <a:xfrm>
            <a:off x="3645000" y="1731960"/>
            <a:ext cx="231840" cy="223920"/>
          </a:xfrm>
          <a:prstGeom prst="rect">
            <a:avLst/>
          </a:prstGeom>
          <a:ln w="0">
            <a:noFill/>
          </a:ln>
        </p:spPr>
      </p:pic>
      <p:pic>
        <p:nvPicPr>
          <p:cNvPr id="360" name="19 Imagen" descr="Imagen relacionada"/>
          <p:cNvPicPr/>
          <p:nvPr/>
        </p:nvPicPr>
        <p:blipFill>
          <a:blip r:embed="rId4"/>
          <a:stretch/>
        </p:blipFill>
        <p:spPr>
          <a:xfrm>
            <a:off x="4586400" y="295596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1" name="20 Imagen" descr="Imagen relacionada"/>
          <p:cNvPicPr/>
          <p:nvPr/>
        </p:nvPicPr>
        <p:blipFill>
          <a:blip r:embed="rId5"/>
          <a:stretch/>
        </p:blipFill>
        <p:spPr>
          <a:xfrm>
            <a:off x="3876840" y="2206800"/>
            <a:ext cx="231480" cy="223560"/>
          </a:xfrm>
          <a:prstGeom prst="rect">
            <a:avLst/>
          </a:prstGeom>
          <a:ln w="0">
            <a:noFill/>
          </a:ln>
        </p:spPr>
      </p:pic>
      <p:sp>
        <p:nvSpPr>
          <p:cNvPr id="362" name="17 CuadroTexto"/>
          <p:cNvSpPr/>
          <p:nvPr/>
        </p:nvSpPr>
        <p:spPr>
          <a:xfrm>
            <a:off x="5119560" y="54752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bildo de Gran Can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19 Imagen" descr="Imagen relacionada"/>
          <p:cNvPicPr/>
          <p:nvPr/>
        </p:nvPicPr>
        <p:blipFill>
          <a:blip r:embed="rId6"/>
          <a:stretch/>
        </p:blipFill>
        <p:spPr>
          <a:xfrm>
            <a:off x="3959280" y="3687840"/>
            <a:ext cx="230040" cy="225360"/>
          </a:xfrm>
          <a:prstGeom prst="rect">
            <a:avLst/>
          </a:prstGeom>
          <a:ln w="0">
            <a:noFill/>
          </a:ln>
        </p:spPr>
      </p:pic>
      <p:pic>
        <p:nvPicPr>
          <p:cNvPr id="364" name="19 Imagen" descr="Imagen relacionada"/>
          <p:cNvPicPr/>
          <p:nvPr/>
        </p:nvPicPr>
        <p:blipFill>
          <a:blip r:embed="rId7"/>
          <a:stretch/>
        </p:blipFill>
        <p:spPr>
          <a:xfrm>
            <a:off x="4192560" y="420372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5" name="19 Imagen" descr="Imagen relacionada"/>
          <p:cNvPicPr/>
          <p:nvPr/>
        </p:nvPicPr>
        <p:blipFill>
          <a:blip r:embed="rId8"/>
          <a:stretch/>
        </p:blipFill>
        <p:spPr>
          <a:xfrm>
            <a:off x="4643280" y="4637160"/>
            <a:ext cx="230400" cy="223920"/>
          </a:xfrm>
          <a:prstGeom prst="rect">
            <a:avLst/>
          </a:prstGeom>
          <a:ln w="0">
            <a:noFill/>
          </a:ln>
        </p:spPr>
      </p:pic>
      <p:pic>
        <p:nvPicPr>
          <p:cNvPr id="366" name="19 Imagen" descr="Imagen relacionada"/>
          <p:cNvPicPr/>
          <p:nvPr/>
        </p:nvPicPr>
        <p:blipFill>
          <a:blip r:embed="rId9"/>
          <a:stretch/>
        </p:blipFill>
        <p:spPr>
          <a:xfrm>
            <a:off x="4338720" y="5159520"/>
            <a:ext cx="230040" cy="223560"/>
          </a:xfrm>
          <a:prstGeom prst="rect">
            <a:avLst/>
          </a:prstGeom>
          <a:ln w="0">
            <a:noFill/>
          </a:ln>
        </p:spPr>
      </p:pic>
      <p:pic>
        <p:nvPicPr>
          <p:cNvPr id="367" name="19 Imagen" descr="Imagen relacionada"/>
          <p:cNvPicPr/>
          <p:nvPr/>
        </p:nvPicPr>
        <p:blipFill>
          <a:blip r:embed="rId10"/>
          <a:stretch/>
        </p:blipFill>
        <p:spPr>
          <a:xfrm>
            <a:off x="3917880" y="5548320"/>
            <a:ext cx="23040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1B23-FBAB-4E0C-9623-C668622A2126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1 Título"/>
          <p:cNvSpPr/>
          <p:nvPr/>
        </p:nvSpPr>
        <p:spPr>
          <a:xfrm>
            <a:off x="900000" y="549360"/>
            <a:ext cx="6624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Iniciativas CPM en prepar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13 CuadroTexto"/>
          <p:cNvSpPr/>
          <p:nvPr/>
        </p:nvSpPr>
        <p:spPr>
          <a:xfrm>
            <a:off x="2700360" y="211140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sejería Empleo, Investigación y Universidades (Murc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15 CuadroTexto"/>
          <p:cNvSpPr/>
          <p:nvPr/>
        </p:nvSpPr>
        <p:spPr>
          <a:xfrm>
            <a:off x="2700360" y="471168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Transportes, movilidad y agenda urb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16 CuadroTexto"/>
          <p:cNvSpPr/>
          <p:nvPr/>
        </p:nvSpPr>
        <p:spPr>
          <a:xfrm>
            <a:off x="2700360" y="341316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Ciencia e Innov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11 CuadroTexto"/>
          <p:cNvSpPr/>
          <p:nvPr/>
        </p:nvSpPr>
        <p:spPr>
          <a:xfrm>
            <a:off x="6880320" y="1951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3 Flecha derecha"/>
          <p:cNvSpPr/>
          <p:nvPr/>
        </p:nvSpPr>
        <p:spPr>
          <a:xfrm>
            <a:off x="179280" y="1052640"/>
            <a:ext cx="8785440" cy="42480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15 Grupo"/>
          <p:cNvGrpSpPr/>
          <p:nvPr/>
        </p:nvGrpSpPr>
        <p:grpSpPr>
          <a:xfrm>
            <a:off x="539640" y="2565360"/>
            <a:ext cx="1440000" cy="1372680"/>
            <a:chOff x="539640" y="2565360"/>
            <a:chExt cx="1440000" cy="1372680"/>
          </a:xfrm>
        </p:grpSpPr>
        <p:grpSp>
          <p:nvGrpSpPr>
            <p:cNvPr id="376" name="11 Rectángulo redondeado"/>
            <p:cNvGrpSpPr/>
            <p:nvPr/>
          </p:nvGrpSpPr>
          <p:grpSpPr>
            <a:xfrm>
              <a:off x="548280" y="2565360"/>
              <a:ext cx="1431360" cy="1359000"/>
              <a:chOff x="548280" y="2565360"/>
              <a:chExt cx="1431360" cy="1359000"/>
            </a:xfrm>
          </p:grpSpPr>
          <p:pic>
            <p:nvPicPr>
              <p:cNvPr id="377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280" y="2565360"/>
                <a:ext cx="143136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640440" y="2657520"/>
                <a:ext cx="1248120" cy="11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8 CuadroTexto"/>
            <p:cNvSpPr/>
            <p:nvPr/>
          </p:nvSpPr>
          <p:spPr>
            <a:xfrm>
              <a:off x="539640" y="2778480"/>
              <a:ext cx="142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a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3/20 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17 Grupo"/>
          <p:cNvGrpSpPr/>
          <p:nvPr/>
        </p:nvGrpSpPr>
        <p:grpSpPr>
          <a:xfrm>
            <a:off x="4871880" y="2565360"/>
            <a:ext cx="1395720" cy="1338480"/>
            <a:chOff x="4871880" y="2565360"/>
            <a:chExt cx="1395720" cy="1338480"/>
          </a:xfrm>
        </p:grpSpPr>
        <p:grpSp>
          <p:nvGrpSpPr>
            <p:cNvPr id="381" name="14 Rectángulo redondeado"/>
            <p:cNvGrpSpPr/>
            <p:nvPr/>
          </p:nvGrpSpPr>
          <p:grpSpPr>
            <a:xfrm>
              <a:off x="4871880" y="2565360"/>
              <a:ext cx="1359360" cy="1338480"/>
              <a:chOff x="4871880" y="2565360"/>
              <a:chExt cx="1359360" cy="1338480"/>
            </a:xfrm>
          </p:grpSpPr>
          <p:pic>
            <p:nvPicPr>
              <p:cNvPr id="382" name="14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1880" y="2565360"/>
                <a:ext cx="1359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4960800" y="2655720"/>
                <a:ext cx="117936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4" name="13 CuadroTexto"/>
            <p:cNvSpPr/>
            <p:nvPr/>
          </p:nvSpPr>
          <p:spPr>
            <a:xfrm>
              <a:off x="4899960" y="2917080"/>
              <a:ext cx="1367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Fin 12/22*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16 Conector recto"/>
          <p:cNvSpPr/>
          <p:nvPr/>
        </p:nvSpPr>
        <p:spPr>
          <a:xfrm>
            <a:off x="561960" y="1987560"/>
            <a:ext cx="0" cy="316872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17 Rectángulo redondeado"/>
          <p:cNvGrpSpPr/>
          <p:nvPr/>
        </p:nvGrpSpPr>
        <p:grpSpPr>
          <a:xfrm>
            <a:off x="633240" y="4297320"/>
            <a:ext cx="1305000" cy="1390680"/>
            <a:chOff x="633240" y="4297320"/>
            <a:chExt cx="1305000" cy="1390680"/>
          </a:xfrm>
        </p:grpSpPr>
        <p:pic>
          <p:nvPicPr>
            <p:cNvPr id="387" name="17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33240" y="4297320"/>
              <a:ext cx="13050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22160" y="4384800"/>
              <a:ext cx="11289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25 CuadroTexto"/>
          <p:cNvSpPr/>
          <p:nvPr/>
        </p:nvSpPr>
        <p:spPr>
          <a:xfrm>
            <a:off x="557280" y="4437000"/>
            <a:ext cx="14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DTI –Admón. Pública Interes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Conven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19 Conector recto"/>
          <p:cNvSpPr/>
          <p:nvPr/>
        </p:nvSpPr>
        <p:spPr>
          <a:xfrm>
            <a:off x="2017800" y="2011320"/>
            <a:ext cx="0" cy="316728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16 Grupo"/>
          <p:cNvGrpSpPr/>
          <p:nvPr/>
        </p:nvGrpSpPr>
        <p:grpSpPr>
          <a:xfrm>
            <a:off x="3386160" y="2565360"/>
            <a:ext cx="1384200" cy="1338480"/>
            <a:chOff x="3386160" y="2565360"/>
            <a:chExt cx="1384200" cy="1338480"/>
          </a:xfrm>
        </p:grpSpPr>
        <p:grpSp>
          <p:nvGrpSpPr>
            <p:cNvPr id="392" name="21 Rectángulo redondeado"/>
            <p:cNvGrpSpPr/>
            <p:nvPr/>
          </p:nvGrpSpPr>
          <p:grpSpPr>
            <a:xfrm>
              <a:off x="3504960" y="2565360"/>
              <a:ext cx="1170360" cy="1338480"/>
              <a:chOff x="3504960" y="2565360"/>
              <a:chExt cx="1170360" cy="1338480"/>
            </a:xfrm>
          </p:grpSpPr>
          <p:pic>
            <p:nvPicPr>
              <p:cNvPr id="393" name="2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4960" y="2565360"/>
                <a:ext cx="1170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589560" y="2645280"/>
                <a:ext cx="1000800" cy="11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10 CuadroTexto"/>
            <p:cNvSpPr/>
            <p:nvPr/>
          </p:nvSpPr>
          <p:spPr>
            <a:xfrm>
              <a:off x="3386160" y="2913480"/>
              <a:ext cx="1384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Adjudic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12/20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16 Grupo"/>
          <p:cNvGrpSpPr/>
          <p:nvPr/>
        </p:nvGrpSpPr>
        <p:grpSpPr>
          <a:xfrm>
            <a:off x="2230560" y="2565360"/>
            <a:ext cx="1220760" cy="1310040"/>
            <a:chOff x="2230560" y="2565360"/>
            <a:chExt cx="1220760" cy="1310040"/>
          </a:xfrm>
        </p:grpSpPr>
        <p:grpSp>
          <p:nvGrpSpPr>
            <p:cNvPr id="397" name="24 Rectángulo redondeado"/>
            <p:cNvGrpSpPr/>
            <p:nvPr/>
          </p:nvGrpSpPr>
          <p:grpSpPr>
            <a:xfrm>
              <a:off x="2298240" y="2565360"/>
              <a:ext cx="1036440" cy="1263600"/>
              <a:chOff x="2298240" y="2565360"/>
              <a:chExt cx="1036440" cy="1263600"/>
            </a:xfrm>
          </p:grpSpPr>
          <p:pic>
            <p:nvPicPr>
              <p:cNvPr id="398" name="24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298240" y="2565360"/>
                <a:ext cx="103644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2374920" y="2640600"/>
                <a:ext cx="882720" cy="11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10 CuadroTexto"/>
            <p:cNvSpPr/>
            <p:nvPr/>
          </p:nvSpPr>
          <p:spPr>
            <a:xfrm>
              <a:off x="2230560" y="2898720"/>
              <a:ext cx="12207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6/20</a:t>
              </a:r>
              <a:r>
                <a:rPr b="0" lang="es-ES" sz="1100" spc="-1" strike="noStrike">
                  <a:solidFill>
                    <a:srgbClr val="ffffff"/>
                  </a:solidFill>
                  <a:latin typeface="Calibri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16 Grupo"/>
          <p:cNvGrpSpPr/>
          <p:nvPr/>
        </p:nvGrpSpPr>
        <p:grpSpPr>
          <a:xfrm>
            <a:off x="6267600" y="2565360"/>
            <a:ext cx="1714320" cy="1306440"/>
            <a:chOff x="6267600" y="2565360"/>
            <a:chExt cx="1714320" cy="1306440"/>
          </a:xfrm>
        </p:grpSpPr>
        <p:grpSp>
          <p:nvGrpSpPr>
            <p:cNvPr id="402" name="27 Rectángulo redondeado"/>
            <p:cNvGrpSpPr/>
            <p:nvPr/>
          </p:nvGrpSpPr>
          <p:grpSpPr>
            <a:xfrm>
              <a:off x="6449400" y="2565360"/>
              <a:ext cx="1371600" cy="1306440"/>
              <a:chOff x="6449400" y="2565360"/>
              <a:chExt cx="1371600" cy="1306440"/>
            </a:xfrm>
          </p:grpSpPr>
          <p:pic>
            <p:nvPicPr>
              <p:cNvPr id="403" name="27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6449400" y="2565360"/>
                <a:ext cx="137160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6542640" y="2654280"/>
                <a:ext cx="1188000" cy="11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10 CuadroTexto"/>
            <p:cNvSpPr/>
            <p:nvPr/>
          </p:nvSpPr>
          <p:spPr>
            <a:xfrm>
              <a:off x="6267600" y="2899440"/>
              <a:ext cx="17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mpra / Ces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1 CuadroTexto"/>
          <p:cNvSpPr/>
          <p:nvPr/>
        </p:nvSpPr>
        <p:spPr>
          <a:xfrm>
            <a:off x="5867280" y="5445000"/>
            <a:ext cx="277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ublicaciones de cada etapa en </a:t>
            </a:r>
            <a:r>
              <a:rPr b="0" lang="es-E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cdti.e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8"/>
          <a:stretch/>
        </p:blipFill>
        <p:spPr>
          <a:xfrm>
            <a:off x="6586560" y="5745240"/>
            <a:ext cx="1395360" cy="295200"/>
          </a:xfrm>
          <a:prstGeom prst="rect">
            <a:avLst/>
          </a:prstGeom>
          <a:ln w="0">
            <a:noFill/>
          </a:ln>
        </p:spPr>
      </p:pic>
      <p:sp>
        <p:nvSpPr>
          <p:cNvPr id="408" name="1 CuadroTexto"/>
          <p:cNvSpPr/>
          <p:nvPr/>
        </p:nvSpPr>
        <p:spPr>
          <a:xfrm>
            <a:off x="2556000" y="4992840"/>
            <a:ext cx="251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* Fechas aproximad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1 CuadroTexto"/>
          <p:cNvSpPr/>
          <p:nvPr/>
        </p:nvSpPr>
        <p:spPr>
          <a:xfrm>
            <a:off x="2147760" y="1341360"/>
            <a:ext cx="339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ndos FEDER del Programa Operativo Plurirregional de España (POPE) 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lazos crític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1 Rectángulo"/>
          <p:cNvSpPr/>
          <p:nvPr/>
        </p:nvSpPr>
        <p:spPr>
          <a:xfrm>
            <a:off x="6541560" y="31845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Fin 12/22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6407280" y="2289240"/>
            <a:ext cx="1369800" cy="239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105080" y="138420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2141280" cy="1528920"/>
          </a:xfrm>
          <a:prstGeom prst="rect">
            <a:avLst/>
          </a:prstGeom>
          <a:ln w="0">
            <a:noFill/>
          </a:ln>
        </p:spPr>
      </p:pic>
      <p:sp>
        <p:nvSpPr>
          <p:cNvPr id="274" name="3 CuadroTexto"/>
          <p:cNvSpPr/>
          <p:nvPr/>
        </p:nvSpPr>
        <p:spPr>
          <a:xfrm>
            <a:off x="1305000" y="2997360"/>
            <a:ext cx="51148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CuadroTexto"/>
          <p:cNvSpPr/>
          <p:nvPr/>
        </p:nvSpPr>
        <p:spPr>
          <a:xfrm>
            <a:off x="3589200" y="4721400"/>
            <a:ext cx="49435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1274760" y="4437000"/>
            <a:ext cx="23367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0FEE-7ADD-45D0-B2A9-9A1196D117B0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2" name="10 CuadroTexto"/>
          <p:cNvSpPr/>
          <p:nvPr/>
        </p:nvSpPr>
        <p:spPr>
          <a:xfrm>
            <a:off x="3902040" y="1312920"/>
            <a:ext cx="51339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DTI actúa en representación del Ministerio de Ciencia e Innov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1 Título"/>
          <p:cNvSpPr/>
          <p:nvPr/>
        </p:nvSpPr>
        <p:spPr>
          <a:xfrm>
            <a:off x="468360" y="836640"/>
            <a:ext cx="8380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ompra Pública Innovadora 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CuadroTexto"/>
          <p:cNvSpPr/>
          <p:nvPr/>
        </p:nvSpPr>
        <p:spPr>
          <a:xfrm>
            <a:off x="1042920" y="249228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mbio de enfo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10 CuadroTexto"/>
          <p:cNvSpPr/>
          <p:nvPr/>
        </p:nvSpPr>
        <p:spPr>
          <a:xfrm>
            <a:off x="1042920" y="317196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arrollar tejido empresa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11 CuadroTexto"/>
          <p:cNvSpPr/>
          <p:nvPr/>
        </p:nvSpPr>
        <p:spPr>
          <a:xfrm>
            <a:off x="1042920" y="3849840"/>
            <a:ext cx="76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cnologías solicitadas por la Admini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12 CuadroTexto"/>
          <p:cNvSpPr/>
          <p:nvPr/>
        </p:nvSpPr>
        <p:spPr>
          <a:xfrm>
            <a:off x="1087560" y="4527720"/>
            <a:ext cx="64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novar en el servicio públ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1 Título"/>
          <p:cNvSpPr/>
          <p:nvPr/>
        </p:nvSpPr>
        <p:spPr>
          <a:xfrm>
            <a:off x="112680" y="333360"/>
            <a:ext cx="8783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¿Cómo es la Compra Pública Innovadora en  CDT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1 Hexágono"/>
          <p:cNvSpPr/>
          <p:nvPr/>
        </p:nvSpPr>
        <p:spPr>
          <a:xfrm>
            <a:off x="118728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TA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7 Hexágono"/>
          <p:cNvSpPr/>
          <p:nvPr/>
        </p:nvSpPr>
        <p:spPr>
          <a:xfrm>
            <a:off x="3419640" y="3868560"/>
            <a:ext cx="272880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NDOS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8 Hexágono"/>
          <p:cNvSpPr/>
          <p:nvPr/>
        </p:nvSpPr>
        <p:spPr>
          <a:xfrm>
            <a:off x="566100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ECOMER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9 Hexágono"/>
          <p:cNvSpPr/>
          <p:nvPr/>
        </p:nvSpPr>
        <p:spPr>
          <a:xfrm>
            <a:off x="3429000" y="1925640"/>
            <a:ext cx="2727360" cy="1942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Cómo es la CPP en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2 CuadroTexto"/>
          <p:cNvSpPr/>
          <p:nvPr/>
        </p:nvSpPr>
        <p:spPr>
          <a:xfrm>
            <a:off x="2779560" y="170820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PI PRO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4 CuadroTexto"/>
          <p:cNvSpPr/>
          <p:nvPr/>
        </p:nvSpPr>
        <p:spPr>
          <a:xfrm>
            <a:off x="2779560" y="46371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CPI RE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5 CuadroTexto"/>
          <p:cNvSpPr/>
          <p:nvPr/>
        </p:nvSpPr>
        <p:spPr>
          <a:xfrm>
            <a:off x="139680" y="41353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ECES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6 CuadroTexto"/>
          <p:cNvSpPr/>
          <p:nvPr/>
        </p:nvSpPr>
        <p:spPr>
          <a:xfrm>
            <a:off x="6638760" y="4205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3 Imagen" descr=""/>
          <p:cNvPicPr/>
          <p:nvPr/>
        </p:nvPicPr>
        <p:blipFill>
          <a:blip r:embed="rId1"/>
          <a:stretch/>
        </p:blipFill>
        <p:spPr>
          <a:xfrm>
            <a:off x="6459480" y="1708200"/>
            <a:ext cx="2284560" cy="199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Resultado de imagen de DIBUJO PENSANDO"/>
          <p:cNvPicPr/>
          <p:nvPr/>
        </p:nvPicPr>
        <p:blipFill>
          <a:blip r:embed="rId2"/>
          <a:srcRect l="25206" t="1520" r="21275" b="5359"/>
          <a:stretch/>
        </p:blipFill>
        <p:spPr>
          <a:xfrm>
            <a:off x="698400" y="1484280"/>
            <a:ext cx="1569960" cy="2730600"/>
          </a:xfrm>
          <a:prstGeom prst="rect">
            <a:avLst/>
          </a:prstGeom>
          <a:ln w="0">
            <a:noFill/>
          </a:ln>
        </p:spPr>
      </p:pic>
      <p:sp>
        <p:nvSpPr>
          <p:cNvPr id="300" name="7 Flecha derecha"/>
          <p:cNvSpPr/>
          <p:nvPr/>
        </p:nvSpPr>
        <p:spPr>
          <a:xfrm>
            <a:off x="2844720" y="301788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10 Flecha derecha"/>
          <p:cNvSpPr/>
          <p:nvPr/>
        </p:nvSpPr>
        <p:spPr>
          <a:xfrm rot="10800000">
            <a:off x="2844360" y="382752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9360" y="404640"/>
            <a:ext cx="91454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ipologías de Compra Pública Innovado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2 Grupo" descr=""/>
          <p:cNvPicPr/>
          <p:nvPr/>
        </p:nvPicPr>
        <p:blipFill>
          <a:blip r:embed="rId1"/>
          <a:stretch/>
        </p:blipFill>
        <p:spPr>
          <a:xfrm>
            <a:off x="341280" y="1384200"/>
            <a:ext cx="8339040" cy="4632480"/>
          </a:xfrm>
          <a:prstGeom prst="rect">
            <a:avLst/>
          </a:prstGeom>
          <a:ln w="0">
            <a:noFill/>
          </a:ln>
        </p:spPr>
      </p:pic>
      <p:sp>
        <p:nvSpPr>
          <p:cNvPr id="304" name="7 CuadroTexto"/>
          <p:cNvSpPr/>
          <p:nvPr/>
        </p:nvSpPr>
        <p:spPr>
          <a:xfrm>
            <a:off x="5373720" y="2133720"/>
            <a:ext cx="3024000" cy="642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(C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Rectángulo"/>
          <p:cNvSpPr/>
          <p:nvPr/>
        </p:nvSpPr>
        <p:spPr>
          <a:xfrm>
            <a:off x="3780000" y="4724280"/>
            <a:ext cx="4895640" cy="58608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I por fa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35800" cy="3527280"/>
          </a:xfrm>
          <a:prstGeom prst="rect">
            <a:avLst/>
          </a:prstGeom>
          <a:ln w="0">
            <a:noFill/>
          </a:ln>
        </p:spPr>
      </p:pic>
      <p:sp>
        <p:nvSpPr>
          <p:cNvPr id="308" name="2 CuadroTexto"/>
          <p:cNvSpPr/>
          <p:nvPr/>
        </p:nvSpPr>
        <p:spPr>
          <a:xfrm>
            <a:off x="5435640" y="4724280"/>
            <a:ext cx="2449440" cy="58140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PTI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7 CuadroTexto"/>
          <p:cNvSpPr/>
          <p:nvPr/>
        </p:nvSpPr>
        <p:spPr>
          <a:xfrm>
            <a:off x="468360" y="566100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*) CPTI: Compra Pública de Tecnología Innovado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Sergio Capitan Herraiz</cp:lastModifiedBy>
  <cp:lastPrinted>2020-02-05T08:47:53Z</cp:lastPrinted>
  <dcterms:modified xsi:type="dcterms:W3CDTF">2020-02-05T11:17:29Z</dcterms:modified>
  <cp:revision>7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