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C7F4-6F0E-49A5-BC57-64384DEAD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C298-2A63-43F0-A3A9-3DFE462BC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4371-6B39-4B2D-9E78-12316E5F1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889C-5465-454C-A943-7772C7A3A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3581-0B19-488A-94AE-676E824A2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93EF-D62D-45C4-B571-AFE491D0F8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B92-62C1-4C88-839F-FA5AD57026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8B7-A399-4C54-A443-3FCF8CFF30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3DF-B89B-44E5-B7CF-D9A149A2F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70B6-48D2-4185-B5EF-B94DD19821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34C-AE26-4B2F-9729-390BDD0C3D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2F5-C413-4C14-943B-ECC3823AF8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B69-8ACE-45B5-85FF-79A458CAC9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D52-9FD6-469F-8146-C32A479A39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D3A-810F-4D18-92C2-86C5BF2405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C25-0D7D-4032-A115-150A6657AD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77F-274B-4694-8420-5C2E19B41A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55E-D78C-4ACE-9B0F-1C76EAA04D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07-D73B-45A7-9A51-1876871EC0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A81E4-E6F3-4C5E-BA3D-45CB417C7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B281-FCC2-46DD-9C30-CF0E391EDF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A104B-B034-4D51-9DDC-31BDCFF8E5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FE3E-A516-42D3-AA7B-73AD4610E9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EDC3D-67A2-4773-BA3C-D217C5D4FD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9C025-01AE-4074-A7FE-B8D60EAE7C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91B3B-B79B-4189-99D3-77F90729B9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9F96B-2BCB-4B33-93EC-06FA318F1A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E4C4B-3864-493E-B56D-1F5C187712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8DD1-0DE4-4367-9F80-9E8A169D96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EB611-1BF0-4D40-9D20-81527A9A7E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5206A-3E45-4652-8449-971E97D79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2C0F-1930-4EC3-BE34-059BE2866E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D433B-8BF2-4DF3-9FC0-3D84981505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7D8A-EC27-478D-9CFE-DC5D45F155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3CE2-8F1A-4795-9591-FA360E5A8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2898-7A62-44F5-A829-D3A0D88CB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B6C-C742-4501-A81C-85CA915DF2E6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D97-877E-4737-954A-9470F5D90093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49C5-CCCB-4DE0-B599-591FB8214B8D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D86-0D44-49F2-8549-BE12839627A5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1640" y="177300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30 En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500720" y="2637000"/>
            <a:ext cx="446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 GESTIÓN DE ENSAYOS / ESTUDIOS CL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Requis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3544920" y="1096920"/>
            <a:ext cx="5491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7 Diagrama" descr=""/>
          <p:cNvPicPr/>
          <p:nvPr/>
        </p:nvPicPr>
        <p:blipFill>
          <a:blip r:embed="rId2"/>
          <a:stretch/>
        </p:blipFill>
        <p:spPr>
          <a:xfrm>
            <a:off x="5479920" y="4498920"/>
            <a:ext cx="3353040" cy="1616040"/>
          </a:xfrm>
          <a:prstGeom prst="rect">
            <a:avLst/>
          </a:prstGeom>
          <a:ln w="0">
            <a:noFill/>
          </a:ln>
        </p:spPr>
      </p:pic>
      <p:sp>
        <p:nvSpPr>
          <p:cNvPr id="320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24000" y="131760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4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A639-D496-4D8B-AA19-75AD349F5C2C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95280" y="5349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7B5-BF95-4321-AA32-2A44AF0DD9B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35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610-8297-44CC-AC5A-57BF6491E8F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24000" y="189000"/>
            <a:ext cx="62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 de inter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1 CuadroTexto"/>
          <p:cNvSpPr/>
          <p:nvPr/>
        </p:nvSpPr>
        <p:spPr>
          <a:xfrm>
            <a:off x="6713640" y="1936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0D9-6ECA-460D-9C31-CEF9C83F738F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1 Título"/>
          <p:cNvSpPr/>
          <p:nvPr/>
        </p:nvSpPr>
        <p:spPr>
          <a:xfrm>
            <a:off x="324000" y="47520"/>
            <a:ext cx="55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9 CuadroTexto"/>
          <p:cNvSpPr/>
          <p:nvPr/>
        </p:nvSpPr>
        <p:spPr>
          <a:xfrm>
            <a:off x="127080" y="136512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.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899320" y="728640"/>
            <a:ext cx="1985760" cy="1046160"/>
          </a:xfrm>
          <a:prstGeom prst="rect">
            <a:avLst/>
          </a:prstGeom>
          <a:ln w="0">
            <a:noFill/>
          </a:ln>
        </p:spPr>
      </p:pic>
      <p:sp>
        <p:nvSpPr>
          <p:cNvPr id="345" name="1 Cerrar llave"/>
          <p:cNvSpPr/>
          <p:nvPr/>
        </p:nvSpPr>
        <p:spPr>
          <a:xfrm>
            <a:off x="4156200" y="1379520"/>
            <a:ext cx="328320" cy="1368360"/>
          </a:xfrm>
          <a:custGeom>
            <a:avLst/>
            <a:gdLst>
              <a:gd name="textAreaLeft" fmla="*/ 0 w 328320"/>
              <a:gd name="textAreaRight" fmla="*/ 118440 w 32832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8 Cerrar llave"/>
          <p:cNvSpPr/>
          <p:nvPr/>
        </p:nvSpPr>
        <p:spPr>
          <a:xfrm>
            <a:off x="4673520" y="4797360"/>
            <a:ext cx="363600" cy="79848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798480"/>
              <a:gd name="textAreaBottom" fmla="*/ 78912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0"/>
                  <a:pt x="10800" y="819"/>
                </a:cubicBezTo>
                <a:lnTo>
                  <a:pt x="10800" y="9981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10"/>
                  <a:pt x="10800" y="11619"/>
                </a:cubicBezTo>
                <a:lnTo>
                  <a:pt x="10800" y="20781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0 CuadroTexto"/>
          <p:cNvSpPr/>
          <p:nvPr/>
        </p:nvSpPr>
        <p:spPr>
          <a:xfrm>
            <a:off x="5148360" y="188748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13 CuadroTexto"/>
          <p:cNvSpPr/>
          <p:nvPr/>
        </p:nvSpPr>
        <p:spPr>
          <a:xfrm>
            <a:off x="5148360" y="289260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14 CuadroTexto"/>
          <p:cNvSpPr/>
          <p:nvPr/>
        </p:nvSpPr>
        <p:spPr>
          <a:xfrm>
            <a:off x="5148360" y="37893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15 CuadroTexto"/>
          <p:cNvSpPr/>
          <p:nvPr/>
        </p:nvSpPr>
        <p:spPr>
          <a:xfrm>
            <a:off x="5148360" y="4292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16 CuadroTexto"/>
          <p:cNvSpPr/>
          <p:nvPr/>
        </p:nvSpPr>
        <p:spPr>
          <a:xfrm>
            <a:off x="5148360" y="5003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17 Imagen" descr="Imagen relacionada"/>
          <p:cNvPicPr/>
          <p:nvPr/>
        </p:nvPicPr>
        <p:blipFill>
          <a:blip r:embed="rId2"/>
          <a:stretch/>
        </p:blipFill>
        <p:spPr>
          <a:xfrm>
            <a:off x="3938760" y="141300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Imagen relacionada"/>
          <p:cNvPicPr/>
          <p:nvPr/>
        </p:nvPicPr>
        <p:blipFill>
          <a:blip r:embed="rId3"/>
          <a:stretch/>
        </p:blipFill>
        <p:spPr>
          <a:xfrm>
            <a:off x="3508200" y="1881360"/>
            <a:ext cx="231840" cy="22356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Imagen relacionada"/>
          <p:cNvPicPr/>
          <p:nvPr/>
        </p:nvPicPr>
        <p:blipFill>
          <a:blip r:embed="rId4"/>
          <a:stretch/>
        </p:blipFill>
        <p:spPr>
          <a:xfrm>
            <a:off x="4448160" y="30495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Imagen relacionada"/>
          <p:cNvPicPr/>
          <p:nvPr/>
        </p:nvPicPr>
        <p:blipFill>
          <a:blip r:embed="rId5"/>
          <a:stretch/>
        </p:blipFill>
        <p:spPr>
          <a:xfrm>
            <a:off x="3780000" y="2338560"/>
            <a:ext cx="231480" cy="223560"/>
          </a:xfrm>
          <a:prstGeom prst="rect">
            <a:avLst/>
          </a:prstGeom>
          <a:ln w="0">
            <a:noFill/>
          </a:ln>
        </p:spPr>
      </p:pic>
      <p:pic>
        <p:nvPicPr>
          <p:cNvPr id="357" name="19 Imagen" descr="Imagen relacionada"/>
          <p:cNvPicPr/>
          <p:nvPr/>
        </p:nvPicPr>
        <p:blipFill>
          <a:blip r:embed="rId6"/>
          <a:stretch/>
        </p:blipFill>
        <p:spPr>
          <a:xfrm>
            <a:off x="4484520" y="3852720"/>
            <a:ext cx="230400" cy="223920"/>
          </a:xfrm>
          <a:prstGeom prst="rect">
            <a:avLst/>
          </a:prstGeom>
          <a:ln w="0">
            <a:noFill/>
          </a:ln>
        </p:spPr>
      </p:pic>
      <p:sp>
        <p:nvSpPr>
          <p:cNvPr id="358" name="18 CuadroTexto"/>
          <p:cNvSpPr/>
          <p:nvPr/>
        </p:nvSpPr>
        <p:spPr>
          <a:xfrm>
            <a:off x="5148360" y="562752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19 Imagen" descr="Imagen relacionada"/>
          <p:cNvPicPr/>
          <p:nvPr/>
        </p:nvPicPr>
        <p:blipFill>
          <a:blip r:embed="rId7"/>
          <a:stretch/>
        </p:blipFill>
        <p:spPr>
          <a:xfrm>
            <a:off x="4557600" y="4815000"/>
            <a:ext cx="230400" cy="22356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8"/>
          <a:stretch/>
        </p:blipFill>
        <p:spPr>
          <a:xfrm>
            <a:off x="4254480" y="526104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19 Imagen" descr="Imagen relacionada"/>
          <p:cNvPicPr/>
          <p:nvPr/>
        </p:nvPicPr>
        <p:blipFill>
          <a:blip r:embed="rId9"/>
          <a:stretch/>
        </p:blipFill>
        <p:spPr>
          <a:xfrm>
            <a:off x="4656240" y="4356000"/>
            <a:ext cx="23004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2B4-8DEC-4A0F-9BB9-9B2A931B458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5 CuadroTexto"/>
          <p:cNvSpPr/>
          <p:nvPr/>
        </p:nvSpPr>
        <p:spPr>
          <a:xfrm>
            <a:off x="2700360" y="471168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Fo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0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75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76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8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1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86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87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9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1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2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396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397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2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490-6924-499A-9D3D-FA9EBC5A1A5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4784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29T11:30:35Z</cp:lastPrinted>
  <dcterms:modified xsi:type="dcterms:W3CDTF">2020-02-04T00:02:56Z</dcterms:modified>
  <cp:revision>6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